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4062EE-2A6D-4535-850C-FE75307E2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83AEEA-B225-4E4A-A62D-A1E960596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14E47C-D06E-4178-AF4D-CB257219D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450107-22D1-49A4-ADF6-B30A45CCB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96AA13-AE04-48BC-9DFD-52F4FBD33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56C85-E27F-47F0-A076-DC4FE1EE1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96590-3B64-4089-8F86-EA5196C84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98853A-CFAC-422E-861B-0BE093870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F1219-4403-4DBE-98E0-4573E401A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83CB6C-5244-43B3-99BC-2B851D3D1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4D853A-4682-4655-84BD-E086E6F13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336474-52B0-40D7-BA08-349E3E1B78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0357-0409-4B0A-BF86-C8A49E5D8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EE48-7ED6-42DD-ACB8-10858D8CD252}" type="datetime">
              <a:rPr b="0" lang="en-US" sz="1400" spc="-1" strike="noStrike">
                <a:solidFill>
                  <a:srgbClr val="ffffff"/>
                </a:solidFill>
                <a:latin typeface="Arial"/>
              </a:rPr>
              <a:t>07/30/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